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BE7-161C-4E4C-92F5-089D8E22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752-783B-4648-B5EA-08DED0D1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29252-5BC0-4B4B-BDFE-5BC7E47C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0D5BC-315A-49D7-A0F3-D0ABE2CF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7B275-8648-4516-B676-84C4374E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AEECD-9DAD-45D2-8DE4-8C09DF90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5E6FF-C375-4271-B4F8-32613EA4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E8E59-DA56-46DF-AC37-41619FB4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9D399-5BB2-48AB-853F-702AA20E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C81A3-4A79-4DCB-AA46-BAEA8FEF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C4D42-3BC4-4480-8668-9FC368F6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5E80E-D7A6-49A3-B7FB-2AC73782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F80-1DA0-439B-AA97-28C4AE81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760BC-A7A0-4F5B-ABB3-430F5B9A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B929C-7E13-410C-8DBF-5BC27165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0774D-CD2C-471C-848B-F636E1A5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8BF6E-3692-4E90-93D5-4276B6D0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66220-0D4F-47C1-BF4E-FE301E47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16DF7-1DBF-406F-8090-8A61EDE7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5B6EF-CB97-4017-AE4E-4F897919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D82D4-8C5D-4B5A-8ED6-162C7F16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C44B3-24C9-4342-90F6-2949FD2C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5BB54-69CA-4836-AE7F-6948D83B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BC9-440A-4749-ADFE-14E6FA09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30844-5DB8-48C2-9B22-CAA48289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D203D-FB06-4158-BC0D-5F167C1C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1A367-DDAC-4C45-A47E-26B94C13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0A888-C677-4E7A-821F-7FE82210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909A9-25A0-487B-82F9-C79AFD16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D0FFB-30C9-440A-AA21-327B769B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A4CF9-D96F-41CE-B686-F4D79121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47D4B-0D53-4159-B827-18601D27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2C0B1-0509-46DF-B8D8-D8881039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0FCA8-3CFC-4E35-8E4F-691B05BE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647C-B6C0-4E05-8714-2486B56E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59CF4-8500-44AB-9873-476DF715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EA39A-A8AA-4883-939B-E5A85A9A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04905-91F7-41DB-B450-396B6D8E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61C75-469D-4DB7-A28A-4028821F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C030F-1F9D-4968-9BD3-22B43744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8C6A3-14DD-4D62-87E3-3840F321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5EC86-DB72-4E0F-B9DC-2714D3F0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A3DFF-A43E-4B19-898B-6A92EAA5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CB2D1-5296-49FE-8840-6EA559AF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67EC5-7540-48FA-9AFA-2CFEC7FD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2E6C-75CC-406B-B8AC-E78EAD13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C6053-F90A-4262-9FAA-A7E2474C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1247B-F624-4A08-9A85-5B54C92E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932F0-7563-4A5A-90E6-D5C33B47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CFB55-0F76-4BAA-9C97-BBF1017E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ABA61-9B77-472A-9B92-77292ED6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54D83-D1C2-45AF-A603-11E813E2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CFA1D-C876-485C-A9A2-9BA93F51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DA5A9-D743-4984-BF62-3C4D5E93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2B03B-4758-4FD6-B8B9-ABB062C8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56EDA-70D3-4A71-AC48-B417D2D7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22BE-AAE5-4379-8B37-93B21E0F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21346-A5EE-415F-A12A-8952E4D5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1D652-541C-4317-A227-11B7136D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5D75A-D169-4AE9-A827-74AB2F1C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7E7EB-CF55-448B-B730-56C9343B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53F2B-64D2-4C04-8023-7A471E07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EF597-2211-4E6A-B057-BAFF2323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EEEF8-8EE0-40D4-9076-4041FE76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DB9C2-6C7B-45AD-A4A1-8909217B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F7B14-EB82-4B9A-B2D1-310A4E56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62E0D-E747-4E87-9FE0-435F9902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CCEC-560D-49DC-9922-A83713DC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D41B8-88D6-4D02-B4B6-DF396046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99ED52-3C70-49E3-AAAD-115B729E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8051E-6E87-41CF-B3E3-7A69E5A3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0327E-61A5-456E-9992-ECE3276F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F2D776-9C7C-414E-9630-9E5F89CD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5A44BF-3999-4CF1-9D22-CF5102F0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78B43-3632-4B99-B9EC-96888AF5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BC055-B323-41DE-8F8F-3C6714F2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B926B-47CE-4E78-A29A-2F32854F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E3997D-8FD3-4E50-905A-DF5DD990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7017-BB7D-44EC-AF74-3DE918DF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F9E216-78F0-4B66-A860-5BC96C92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3AACE8-A156-4DCA-B2B8-FC7E271E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460F18-EE88-4D86-B9C8-CD4FFA24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16949B-7A0F-415F-8E98-6B768AC3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0AE9E5-4463-4EF2-B802-6D08CB4F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07DAC-7860-4369-ADD6-A878ADD4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D611F-BF74-4B76-BB59-3CC83ABA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833BFB-A036-4508-8C04-7098F59C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94EF9-78A5-42C0-A509-DB3FAF7D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367E9-7FA2-4DD3-9046-7D2D012F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9559-04FC-4EBE-A919-9D144B08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55BFB5-F2B3-4A48-BB49-7AF714F4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90363-743D-4AB2-BF27-9308A673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88604-5D86-4E6F-AC71-464326E9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C37539-ABF7-4F9B-BC8F-684229E9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76A87-71C3-4223-9C9A-783C40FB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33FC5-5859-4109-8DBC-60E0AB68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B448A-AB81-4BC6-928B-5125B70E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E4AA7-ECB0-4425-A63F-6DF79404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4D76CB-D79F-4633-A188-460B102E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C862B3-9967-4AE0-B94B-A4F64B4E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860B-093E-41BE-8860-435F868D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B68C13-BD63-4189-B8A9-BBEB4FE7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B4730A-25AE-4B0F-96F8-C5D37408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28D738-A377-4C4E-AD1D-4F3F1B0F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4AAB6-F2C8-40DF-89C9-3DE0AF63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F1378A-1BC1-4382-839B-40D6ED7C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5E5AD5-2680-43E6-AB0A-67C115CB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0D669E-44E9-4D0D-8FEE-47EC86C7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736FB2-5A09-45AB-94E3-10106FE9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7C031-F4D9-4AA2-A84A-492BB84B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D9C466-0160-4428-A148-7034841E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77F-FAD7-4EC4-AB99-333A7349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1356-67BA-49E5-B39A-A261BA47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5D5430-9B4A-4C00-8C95-57DC68D2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6C9F9-42B7-4903-9250-93CB296E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42D220-A734-4C21-9B02-017C063B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CABDDD-699C-47D1-AAF0-9F949B21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7D1756-D447-4FD8-9774-AC18D823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036D7-C56F-4EF9-BB3B-230C4F22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7CB301-29E2-4D18-B8D4-22FF1CCD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63DDA0-04E4-482D-830A-65559515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BA601B-9898-4334-93D2-3B2C4517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9CA1A9-7DD8-4A76-B060-7C44B969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5A6B-3A1F-402D-B36F-BAA8FB71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EB8292-0E88-4FE5-82EE-71701D27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47D25A-8128-40C2-81DB-38B064CB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AF65C-03B8-4C2F-ABDC-E03D52F9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F22E08-2CFD-4487-8AAC-6AE9A665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D28413-6B6F-48C7-971B-7AFB761C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47C0C9-5CC8-4FC7-ABAB-7169F2EC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1A59FD-331E-4311-B731-A62633AD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DF0822-B79C-46EB-9771-C10CCD80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B5F769-E9CE-4C13-A8CD-F92595D7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812A45-78CF-45B8-AA35-A1948051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C079-3884-4CA6-9080-72ABAF58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7FC70B-EA46-422B-8BF1-1BA6D66F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EBF15F-D1FB-428C-886D-CC252172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F13317-6D53-4D28-9B18-B092EB6F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787DA4-4FF8-4D87-9200-84FE6803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7ABCF3-31EA-407D-8D52-83B99DDE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3496AE-214F-451B-917B-E4C594F8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84306C-D62C-4D28-9FEE-0E6137D5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8F9DE1-00B9-4D89-8A62-83641A16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27EE64-7834-4091-8396-831F4FBB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5D37A2-B0C7-4899-9DDB-662C017F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E60E-1C76-4960-B935-21647979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B2D6B0-BA41-4224-95E4-FA2DB434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1B8651-C261-4B80-95F7-9A2F7983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E29D02-A4F6-41B8-8A36-FF694AB0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9A7E4B-BF9B-4CF5-B1DA-F0EE98E9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8819A2-F231-4FF6-A7C0-F6BB72EF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B1F1EC-123A-4572-B1EB-B56EBF1A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CAFB97-E6A6-4613-996D-F285D02E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AB7530-A36F-4FB7-8D1F-C7D97F5D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90CAD0-5B62-4301-A15D-3AD11410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5A9AFC-DC2A-46D3-B590-55543591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971D-6897-4F97-BEFD-89E4EC2D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F9B5BF-E3B0-4ABC-A6E9-9EDAD5AB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6F0461-2641-41F5-A3AE-7E838CA7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3FD69E-BB19-4934-A775-C9313E63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61C1F7-0FBF-42C5-B59C-D4F76B72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682BF5-5E29-4CD4-A7D2-877A371B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BC231F-815B-4B9F-8340-3BDA96A6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8AC7A0-088E-4B25-9097-804B637E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99C22-D92B-4321-90DD-104758BC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A959F1-A5DD-4787-A873-05E16055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C33844-F819-4968-BB6D-41498C40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0A575-1EA1-472E-9BED-DF59BC33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6FF3B3-104C-4ACD-9E5E-2A35C636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A6D17E-D278-4AA8-9F90-7237F1A2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03F11C-4908-4387-9EEA-92E975AB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186D4-D450-441B-9985-9037FBE7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4D850-E16F-4858-981B-7829EADB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091F-6460-4F40-AC65-7FF17686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D9C1-50CA-4E9E-B0AF-3A4211EE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A95-635B-4A57-BD0A-807B0E2B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3C010-0837-46A6-81A9-C55D9C91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CAF55-C73E-4DEC-AF03-0BED7C32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A95D7-00F6-4D16-B674-60BE618E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C9836-0D9C-43E6-A4A2-BD1EE2F1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8983B-EA00-43D6-A134-412B40BA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52178-C6FC-4507-9D48-F3F4A5D0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CE742-36E0-4585-BEFC-F210B2AE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E9C12-67A7-48D3-A16D-3B7231A9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40B2E-FBDB-45BF-8126-A4F9BC38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57A56-11C9-457B-B9BA-E5EBDBCD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C8B-548C-457F-8D29-DFC0415A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7A5C5-B1CF-44D0-B19D-9399854A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FD507-052B-4504-BE34-8CA707C3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3DC3-74C5-4966-900F-A8B1E8DF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9326C-917B-4ABA-90A4-9570B274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BC9F0-5DF4-46F5-A92E-B1452575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05B40-490E-4DC8-B278-AE079C2F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8A266-3AA7-4511-9712-BE882321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AFA9B-6C75-4E10-B45A-C993D7C2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4EA9B-ADB2-4772-A6CB-550487CA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73E08-8DDF-47F5-8051-81D1B889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C7D-91D1-4895-8789-604D2743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E7A24-1A06-4FD7-AE72-9057BA54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13D8D-95E5-42AF-8606-F9B8EE81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9893B-C705-4315-8AFD-D040F6B0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DBE5B-E62D-4EE5-9637-573D5726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E944E-679A-4D73-91A0-1E212231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91940-CFBE-4DD0-B697-20B23EEF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83657-84AC-4121-9A54-06A64743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16B37-7932-40E0-9E7D-FA5DF309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6373A-0C3C-4883-9ACE-08F003DC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A37CE-E206-4169-B7E5-DB1E06A9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23E-5451-4E33-B3AA-2BB57058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F0C0E-E883-4D27-BECC-FEC47CE9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85374-483A-46ED-B782-CCCC7CA9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CDE8F-F22C-4715-A50A-536E7050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81125-C679-41D4-9469-37C15EA3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C77C2-8B6B-4519-81E8-33A05A7A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5CE24-4C89-4746-ADB6-95C15FB5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74099-2DC2-46A0-BDBA-98BF951A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939D8-4A7A-4A5E-ACC6-F92BC7F1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59C48-755A-435B-86CC-584798AD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EB6D6-B654-46A0-903A-FE8028A6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D8C-1D3E-49EE-8234-7AE1F15D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56A50-96A5-457C-88D8-ADAE9645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B3042-9B73-47AB-BB2C-4934DFDB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E02B4-9A48-46C5-829D-5B4752BC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5C653-33DC-4DE8-A32B-690FF3D8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E3D62-BAC3-4558-A0A9-D7A8D1F5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F2577-67C7-437A-BB1B-64DB13B0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474F0-CFD4-403E-A2EB-5CD04D64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3AD23-37C7-4DD9-B492-921B2E6F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66467-6C9E-4D5E-9DC4-B12B79A7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D15C2-2337-4C12-B77C-DCD133D5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2AF-0DF3-4A2E-B596-858CB80E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89C42-CD4C-45EA-825D-C69F5B47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51C60-FCA0-4BEE-9DBD-3461694C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1F3F9-EB5D-43A1-B165-4BC82FED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13B82-96D1-48B8-A333-5879B944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6D4D1-9433-45AA-8237-BA1A6770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68945-EBAE-469A-B4B5-552487BD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70797-2E6F-46F2-AA36-00497AE4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58AB2-7BC1-4684-9B0D-A5040F35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951C4-A331-4319-B011-128871F8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FF549-17B4-45D9-91D1-1550984F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C30-F52E-4BE3-846C-CD557A55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BB000-15EA-4DFD-9EEB-B8D96633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F48D2-E402-4101-962E-308F80A8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193CC-DD00-4139-B903-1CF7BECE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5162A-139F-4FBA-99B7-669676EE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08DD7-7FED-43A3-9863-FC6827B5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CBFCA-E712-42B5-BFE9-1500EBF4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57C2F-3180-49FC-874E-D1A6DADD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78ED5-6F07-4108-ADF9-C89C56FF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FED64-0789-4DAF-8FC8-64BD80DC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6B5B9-9918-4315-A268-5AAC9E20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4157-48AE-41E7-943E-5AFF108D31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0171-B146-45E0-8E08-2F6E0043FE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77D2-E618-4ED7-A6A8-6D55D16CC4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7FF3-3454-4809-8ADB-D3E4924AF1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132C-78EC-4E1C-9000-BE1DA54F20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CF03-3F77-46A3-BCB9-E90DFAD1E8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905A-FA10-4BF1-B63D-A0725CD221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3032-4D26-432E-AA8D-8871ACD301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71B9-FFC9-48AF-B9E8-D34B924E82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8D10-FE2A-4E57-8514-CCE53EDA75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962A-B523-4F75-8CC0-6929C01A51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AF17-109C-4EC0-8C1E-D2F6162EE5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1580-3071-4021-A673-A7C0AD6381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EE1A-9AEA-4802-9C5B-D9C2095DF8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DF70-BAED-4545-86EA-C2AB0898CE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79D0-A872-4209-81E6-B88E6C6574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BA0F-DC97-4A6A-9C78-266E03FCE3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9C70-EDBF-4FDB-9B32-9B4D99C0AF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2A72-7905-4D71-A428-B2F51A37CB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A514-94AB-4539-A356-E63F1D682E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274D-F7AA-4185-9C19-F1A6839D7B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11B0-E73B-40D0-A2C7-D756EE0292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515E-1025-4FC0-AA07-E6F1B3C698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007B-08CA-4ABB-935C-364EF95792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42EF-E246-4A7D-85DD-F32DCA1FBA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1384-7460-4384-AB11-535EC9C3F1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DF9D-3F28-456F-8A67-D9820C4984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9DE9-33DE-407D-BAD4-F4EBE6BFF0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25F5-156F-4085-A5E8-A7EE8EC4C9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F61E-9DAD-4549-906F-EEF62F41D3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7853-778E-4339-8E12-55C4DDE4B9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7D2B-5ACF-41C5-B61A-781928AD0C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6A46-6BCD-4EDF-8A81-66624670F5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788E-5BF6-4600-92C8-989ECE07F7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A8FF-8EB1-435A-9C23-FF984F799C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8A75-7FDC-452A-B853-68BC3A527B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1C5C-278E-4D4E-B5B1-E3AC9DA131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16F2-5350-4237-B1B4-521C9F0A36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0AAD-C038-4DB0-B0DE-CA5C6CEF45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2E9A-3BFC-442A-906D-194DE1C0C3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2000160" y="3005280"/>
            <a:ext cx="514368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69633" descr=""/>
          <p:cNvPicPr/>
          <p:nvPr/>
        </p:nvPicPr>
        <p:blipFill>
          <a:blip r:embed="rId1"/>
          <a:stretch/>
        </p:blipFill>
        <p:spPr>
          <a:xfrm>
            <a:off x="509760" y="957240"/>
            <a:ext cx="8124480" cy="49435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626436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626436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1116000" y="367344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971640" y="422100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971640" y="472428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1042920" y="5243400"/>
            <a:ext cx="626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23920" y="1924200"/>
            <a:ext cx="8696160" cy="30096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3924360" y="4394160"/>
            <a:ext cx="17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6948360" y="4394160"/>
            <a:ext cx="13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59410" descr=""/>
          <p:cNvPicPr/>
          <p:nvPr/>
        </p:nvPicPr>
        <p:blipFill>
          <a:blip r:embed="rId1"/>
          <a:stretch/>
        </p:blipFill>
        <p:spPr>
          <a:xfrm>
            <a:off x="223920" y="509760"/>
            <a:ext cx="8696160" cy="5838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7956720" y="29973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7956720" y="531504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8373" descr=""/>
          <p:cNvPicPr/>
          <p:nvPr/>
        </p:nvPicPr>
        <p:blipFill>
          <a:blip r:embed="rId1"/>
          <a:stretch/>
        </p:blipFill>
        <p:spPr>
          <a:xfrm>
            <a:off x="266760" y="557280"/>
            <a:ext cx="8610480" cy="57434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2843280" y="285264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5724360" y="4595760"/>
            <a:ext cx="24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971640" y="5762520"/>
            <a:ext cx="93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7352" descr=""/>
          <p:cNvPicPr/>
          <p:nvPr/>
        </p:nvPicPr>
        <p:blipFill>
          <a:blip r:embed="rId1"/>
          <a:stretch/>
        </p:blipFill>
        <p:spPr>
          <a:xfrm>
            <a:off x="333360" y="1719360"/>
            <a:ext cx="8477280" cy="341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611280" y="2881440"/>
            <a:ext cx="30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4427640" y="2881440"/>
            <a:ext cx="417672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539640" y="463860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4572000" y="4595760"/>
            <a:ext cx="417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56324" descr=""/>
          <p:cNvPicPr/>
          <p:nvPr/>
        </p:nvPicPr>
        <p:blipFill>
          <a:blip r:embed="rId1"/>
          <a:stretch/>
        </p:blipFill>
        <p:spPr>
          <a:xfrm>
            <a:off x="247680" y="1647720"/>
            <a:ext cx="8648640" cy="35625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34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4557600" y="2852640"/>
            <a:ext cx="411804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468360" y="4581360"/>
            <a:ext cx="437652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4932360" y="4581360"/>
            <a:ext cx="367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5300" descr=""/>
          <p:cNvPicPr/>
          <p:nvPr/>
        </p:nvPicPr>
        <p:blipFill>
          <a:blip r:embed="rId1"/>
          <a:stretch/>
        </p:blipFill>
        <p:spPr>
          <a:xfrm>
            <a:off x="237960" y="1852560"/>
            <a:ext cx="8668080" cy="31528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525600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611280" y="4581360"/>
            <a:ext cx="525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54276" descr=""/>
          <p:cNvPicPr/>
          <p:nvPr/>
        </p:nvPicPr>
        <p:blipFill>
          <a:blip r:embed="rId1"/>
          <a:stretch/>
        </p:blipFill>
        <p:spPr>
          <a:xfrm>
            <a:off x="257040" y="762120"/>
            <a:ext cx="8629920" cy="5333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8028000" y="46101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52231" descr=""/>
          <p:cNvPicPr/>
          <p:nvPr/>
        </p:nvPicPr>
        <p:blipFill>
          <a:blip r:embed="rId1"/>
          <a:stretch/>
        </p:blipFill>
        <p:spPr>
          <a:xfrm>
            <a:off x="433440" y="1547640"/>
            <a:ext cx="8277120" cy="37627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460872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460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9:03:3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